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8BCA-82ED-45EB-AFD9-9D8838AA1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D6DC-36E2-453C-9774-F5484C40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B237-D4C8-45E6-AB74-1D21FE64B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AB5E-A618-42CF-BA1E-76680A917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9D5F-0D2A-4D8D-8658-093FF2023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E43E-7379-4967-8142-22998363D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3BF3-844B-4D51-875A-23217F200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4408-2FF7-40C1-B5A9-AB0A7EF4E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2675-7E57-42AF-94C5-E8E5B8FC0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845E-A5D5-4B3C-A80F-5730EA54C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87B4-3AC7-4A6A-B0EB-1A01FDAF1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C814-3B82-4C76-996F-B569D5C30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FD0-0D3C-4F71-95B9-DB11ACFAB6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sources.curriculum.org/secretariat/honouring/fostering.html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gains.ca/newsite/math2/classroomdynamic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836C-F68F-4FA4-82B4-D8F9C6B876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 5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lling Abou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3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athematici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 about – meet as many group members as possible and record their respon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5071-855E-4795-8BBE-4C5C193D8C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A91-DB85-4FE0-B54E-D00FA86D20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3657600" y="4373640"/>
            <a:ext cx="411804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2361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norms for collaborative 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A94-8F45-478F-B252-6DDAA040E9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4419720" y="990720"/>
            <a:ext cx="390528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n the Li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you a Mathematic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ideas you recorded and  position yourself on the line between 1(no) and 10 (y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rompt and your position with those besid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40D-6714-44BA-A541-311E30F842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324480" y="555480"/>
            <a:ext cx="215748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1438560" cy="157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“norms” (rules, conditions) need to be in place if we are to work and learn together collaboratively in groups as mathematician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take 4 or 5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one suggestion on each note (example: everyone gets a chance to share think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9C3-AD4A-4E51-A140-13449F4CC0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icky Note Pile Up (con’t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roups of four compare your sticky notes and pile ones that are the same idea on top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with another group of four and repea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roup of eight will read their sticky piles while remaining groups who have a similar pile put theirs on top until all sticky notes ar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317A-26BB-4744-AF11-2DD4CD375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859200" y="5105520"/>
            <a:ext cx="2905200" cy="163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ouring Student Voice (Fostering a Community of Learners) It's ok to disagree!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esources.curriculum.org/secretariat/honouring/foster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1A48-1A1B-44D4-A515-153FFC8B2F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551560" y="40384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ome Activity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ay wish to visit the EduGAINS Site and review the Classroom Dynamics resources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//www.edugains.ca/newsite/math2/classroomdynamic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research monograph by Dr. Cathy Bruce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udent Interaction in the Math Classroom: Stealing Ideas or Building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edugains.ca/newsite/lns/whatworks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251C-C84C-4811-BFE8-B0A9719989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Blair, Danielle</cp:lastModifiedBy>
  <dcterms:modified xsi:type="dcterms:W3CDTF">2012-07-23T13:44:03Z</dcterms:modified>
  <cp:revision>37</cp:revision>
  <dc:subject/>
  <dc:title>&lt;Title&gt;</dc:title>
</cp:coreProperties>
</file>